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6D51-0BB3-4780-8E8C-45219C950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C8B2-9AEE-44E4-8BBD-194FD4FE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51FF-6D85-4F94-A95E-EED2CFB6C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A94A-889F-48A5-BB42-039C5B144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AE3E-0E2D-4C14-A0BC-01CDF459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34FD-490D-4290-A569-C05C6C0F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9A72-46EA-447F-960F-B7213636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DFA1-76B2-48FD-B806-9D055365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58CC-2963-4EB1-8E20-901D40BE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3191-1008-4E07-A1B2-38A630AA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64C1-8A26-4743-9714-880D4176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85F9-1027-4B30-81FB-0480DFCE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2CD3-4AD1-4786-A96D-4CE60337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5F1A-F01B-4A02-983D-B56A276A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6966-68D9-4DAA-B37E-08669250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CA31-505C-41DB-8137-9E489D8D5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6E10-74FE-4453-8035-D6D975AA1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98CC-73FD-43E8-8511-D9357C23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D4B7-A7F9-43DB-9B49-F247329A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0109-5DAA-4CC5-8DA6-A9527066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7F39-A7A5-45D7-9867-13050CA3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F212-E20B-4248-BCA6-3A027A51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1449-9926-4795-8797-1A6D05A0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D7FB-F7A0-4DB8-9227-CE38AA42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97D3-DD12-4E76-9095-0B4166C7A15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A423-21AF-4073-AA4A-392F3800E39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λυ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graphicFrame>
        <p:nvGraphicFramePr>
          <p:cNvPr id="87" name=""/>
          <p:cNvGraphicFramePr/>
          <p:nvPr/>
        </p:nvGraphicFramePr>
        <p:xfrm>
          <a:off x="155520" y="1357200"/>
          <a:ext cx="8832960" cy="4373640"/>
        </p:xfrm>
        <a:graphic>
          <a:graphicData uri="http://schemas.openxmlformats.org/drawingml/2006/table">
            <a:tbl>
              <a:tblPr/>
              <a:tblGrid>
                <a:gridCol w="1951200"/>
                <a:gridCol w="1293840"/>
                <a:gridCol w="3041640"/>
                <a:gridCol w="2546280"/>
              </a:tblGrid>
              <a:tr h="456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mmat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glis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b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i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ι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 or it is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 or it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p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με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p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τ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p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ι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A903CC18-990E-478D-9D59-5AB0CA5CEB4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0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662400" y="1500120"/>
            <a:ext cx="37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3.3 Forming a Sent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OMINATIVE AND ACCUSATIVE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28760" y="2071800"/>
            <a:ext cx="871524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εις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- You (singular) s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εις αγγελον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- You (singular) see an ang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εις αγγελους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- You (singular) see ang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ετε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- You (plural) s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ουλος βλεπει αγγελον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- A slave sees an ang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ουλοι βλεπουσιν αγγελον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- Slaves see an ang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ουλοι βλεπουσιν αγγελους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Slaves see ang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OMINATIVE AND ACCUSATIVE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486080" y="1641600"/>
            <a:ext cx="6172200" cy="11912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erbs agree with their subject in n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357120" y="3251160"/>
            <a:ext cx="8286840" cy="26845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are three steps to trans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Work out the cases of th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Work out why the different words have the cases they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 Translate the sentence according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14200" y="2428920"/>
            <a:ext cx="8786880" cy="29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Greek"/>
                <a:ea typeface="Times New Roman"/>
              </a:rPr>
              <a:t> 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κυριος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rd)</a:t>
            </a:r>
            <a:r>
              <a:rPr b="0" lang="en-GB" sz="24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δουλους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slave)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cc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κυριος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because it is the 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δουλου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cc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because it is the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ntence = 'A lord has slaves.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OMINATIVE AND ACCUSATIVE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1143000" y="1714680"/>
            <a:ext cx="628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6"/>
          <p:cNvSpPr/>
          <p:nvPr/>
        </p:nvSpPr>
        <p:spPr>
          <a:xfrm>
            <a:off x="928800" y="221472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l-GR" sz="2800" spc="-1" strike="noStrike">
                <a:solidFill>
                  <a:srgbClr val="ffffff"/>
                </a:solidFill>
                <a:latin typeface="Gentium"/>
                <a:ea typeface="Arial"/>
              </a:rPr>
              <a:t>κυριος ἐχει δουλ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DEFINITE ARTI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523880" y="1460520"/>
          <a:ext cx="5977080" cy="2271600"/>
        </p:xfrm>
        <a:graphic>
          <a:graphicData uri="http://schemas.openxmlformats.org/drawingml/2006/table">
            <a:tbl>
              <a:tblPr/>
              <a:tblGrid>
                <a:gridCol w="1992600"/>
                <a:gridCol w="1992240"/>
                <a:gridCol w="1992240"/>
              </a:tblGrid>
              <a:tr h="45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in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6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ο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6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6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42920" y="4000680"/>
            <a:ext cx="10358280" cy="18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225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25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βλεπει </a:t>
            </a:r>
            <a:r>
              <a:rPr b="0" lang="el-GR" sz="26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ον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 αγγελον.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5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l-GR" sz="2500" spc="-1" strike="noStrike">
                <a:solidFill>
                  <a:srgbClr val="ffffff"/>
                </a:solidFill>
                <a:latin typeface="Greek"/>
                <a:ea typeface="Times New Roman"/>
              </a:rPr>
              <a:t> 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singular) se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g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25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ἱ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 αγγελοι βλεπουσιν.</a:t>
            </a:r>
            <a:r>
              <a:rPr b="0" lang="en-GB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gels s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25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 ἀνθρωπος βλεπει τους αγγελους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 </a:t>
            </a:r>
            <a:r>
              <a:rPr b="0" lang="el-GR" sz="1000" spc="-1" strike="noStrike">
                <a:solidFill>
                  <a:srgbClr val="ffffff"/>
                </a:solidFill>
                <a:latin typeface="Greek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person sees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g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"/>
          <p:cNvSpPr/>
          <p:nvPr/>
        </p:nvSpPr>
        <p:spPr>
          <a:xfrm>
            <a:off x="214200" y="1658880"/>
            <a:ext cx="8786880" cy="45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wo special uses of the definite artic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.g.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ὁ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Δαυιδ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= David (not 'the David'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bstract No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.g.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ὁ ανθρωπο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= ‘the person’, also ‘humanity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.g.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ὁ νομο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= ‘law’ (as a concept), also ‘the law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God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rather than ‘a god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.g.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ὁ θε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5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SPECIAL USES OF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DEFINITE ARTI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λυ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92" name="Rectangle 4"/>
          <p:cNvSpPr/>
          <p:nvPr/>
        </p:nvSpPr>
        <p:spPr>
          <a:xfrm>
            <a:off x="928800" y="2013120"/>
            <a:ext cx="707220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68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 or Plural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ει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ε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: he, she, or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lural: two possibilities –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ουσιν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ουσ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ουσ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Verdana"/>
              </a:rPr>
              <a:t>is always used before a vowel and at the end of a sen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BF35A4FD-D485-45DF-84DE-32442B8EC4A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.1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PRESENT TENSE OF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λυ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97" name="Text Box 5"/>
          <p:cNvSpPr/>
          <p:nvPr/>
        </p:nvSpPr>
        <p:spPr>
          <a:xfrm>
            <a:off x="343080" y="4626000"/>
            <a:ext cx="8458200" cy="1007640"/>
          </a:xfrm>
          <a:prstGeom prst="rect">
            <a:avLst/>
          </a:prstGeom>
          <a:noFill/>
          <a:ln w="3168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One Greek word often means more than one English w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071720" y="1785960"/>
          <a:ext cx="6765840" cy="1879560"/>
        </p:xfrm>
        <a:graphic>
          <a:graphicData uri="http://schemas.openxmlformats.org/drawingml/2006/table">
            <a:tbl>
              <a:tblPr/>
              <a:tblGrid>
                <a:gridCol w="761760"/>
                <a:gridCol w="1024200"/>
                <a:gridCol w="1593720"/>
                <a:gridCol w="1003320"/>
                <a:gridCol w="1023840"/>
                <a:gridCol w="135900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με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τ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 or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υ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68AF1BCA-7BC2-436B-A2DE-50F477833DA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λυ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grpSp>
        <p:nvGrpSpPr>
          <p:cNvPr id="103" name="Group 28"/>
          <p:cNvGrpSpPr/>
          <p:nvPr/>
        </p:nvGrpSpPr>
        <p:grpSpPr>
          <a:xfrm>
            <a:off x="228600" y="1709640"/>
            <a:ext cx="8686080" cy="2362320"/>
            <a:chOff x="228600" y="1709640"/>
            <a:chExt cx="8686080" cy="2362320"/>
          </a:xfrm>
        </p:grpSpPr>
        <p:sp>
          <p:nvSpPr>
            <p:cNvPr id="104" name="Rectangle 4"/>
            <p:cNvSpPr/>
            <p:nvPr/>
          </p:nvSpPr>
          <p:spPr>
            <a:xfrm>
              <a:off x="228600" y="1709640"/>
              <a:ext cx="15292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λεγ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5"/>
            <p:cNvSpPr/>
            <p:nvPr/>
          </p:nvSpPr>
          <p:spPr>
            <a:xfrm>
              <a:off x="1757880" y="1709640"/>
              <a:ext cx="28468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I am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>
              <a:off x="4604760" y="1709640"/>
              <a:ext cx="1539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βλεπ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>
              <a:off x="6144840" y="1709640"/>
              <a:ext cx="27698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I am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8"/>
            <p:cNvSpPr/>
            <p:nvPr/>
          </p:nvSpPr>
          <p:spPr>
            <a:xfrm>
              <a:off x="228600" y="2087280"/>
              <a:ext cx="15292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λεγει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9"/>
            <p:cNvSpPr/>
            <p:nvPr/>
          </p:nvSpPr>
          <p:spPr>
            <a:xfrm>
              <a:off x="1757880" y="2087280"/>
              <a:ext cx="28468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You (sing.) are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0"/>
            <p:cNvSpPr/>
            <p:nvPr/>
          </p:nvSpPr>
          <p:spPr>
            <a:xfrm>
              <a:off x="4604760" y="2087280"/>
              <a:ext cx="153972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βλεπει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1"/>
            <p:cNvSpPr/>
            <p:nvPr/>
          </p:nvSpPr>
          <p:spPr>
            <a:xfrm>
              <a:off x="6144840" y="2087280"/>
              <a:ext cx="27698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You (sing.) are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2"/>
            <p:cNvSpPr/>
            <p:nvPr/>
          </p:nvSpPr>
          <p:spPr>
            <a:xfrm>
              <a:off x="228600" y="2465640"/>
              <a:ext cx="15292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λεγε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3"/>
            <p:cNvSpPr/>
            <p:nvPr/>
          </p:nvSpPr>
          <p:spPr>
            <a:xfrm>
              <a:off x="1757880" y="2465640"/>
              <a:ext cx="28468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He, she or it is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4"/>
            <p:cNvSpPr/>
            <p:nvPr/>
          </p:nvSpPr>
          <p:spPr>
            <a:xfrm>
              <a:off x="4604760" y="2465640"/>
              <a:ext cx="1539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5"/>
            <p:cNvSpPr/>
            <p:nvPr/>
          </p:nvSpPr>
          <p:spPr>
            <a:xfrm>
              <a:off x="6144840" y="2465640"/>
              <a:ext cx="27698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He, she or it is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6"/>
            <p:cNvSpPr/>
            <p:nvPr/>
          </p:nvSpPr>
          <p:spPr>
            <a:xfrm>
              <a:off x="228600" y="2843640"/>
              <a:ext cx="15292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λεγομε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7"/>
            <p:cNvSpPr/>
            <p:nvPr/>
          </p:nvSpPr>
          <p:spPr>
            <a:xfrm>
              <a:off x="1757880" y="2843640"/>
              <a:ext cx="28468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 are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8"/>
            <p:cNvSpPr/>
            <p:nvPr/>
          </p:nvSpPr>
          <p:spPr>
            <a:xfrm>
              <a:off x="4604760" y="2843640"/>
              <a:ext cx="1539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βλεπομε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9"/>
            <p:cNvSpPr/>
            <p:nvPr/>
          </p:nvSpPr>
          <p:spPr>
            <a:xfrm>
              <a:off x="6144840" y="2843640"/>
              <a:ext cx="27698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 are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0"/>
            <p:cNvSpPr/>
            <p:nvPr/>
          </p:nvSpPr>
          <p:spPr>
            <a:xfrm>
              <a:off x="228600" y="3221280"/>
              <a:ext cx="15292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λεγετ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1"/>
            <p:cNvSpPr/>
            <p:nvPr/>
          </p:nvSpPr>
          <p:spPr>
            <a:xfrm>
              <a:off x="1757880" y="3221280"/>
              <a:ext cx="28468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You (pl.) are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2"/>
            <p:cNvSpPr/>
            <p:nvPr/>
          </p:nvSpPr>
          <p:spPr>
            <a:xfrm>
              <a:off x="4604760" y="3221280"/>
              <a:ext cx="153972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βλεπετ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3"/>
            <p:cNvSpPr/>
            <p:nvPr/>
          </p:nvSpPr>
          <p:spPr>
            <a:xfrm>
              <a:off x="6144840" y="3221280"/>
              <a:ext cx="27698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You (pl.) are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"/>
            <p:cNvSpPr/>
            <p:nvPr/>
          </p:nvSpPr>
          <p:spPr>
            <a:xfrm>
              <a:off x="228600" y="3599640"/>
              <a:ext cx="1529280" cy="4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λεγουσι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5"/>
            <p:cNvSpPr/>
            <p:nvPr/>
          </p:nvSpPr>
          <p:spPr>
            <a:xfrm>
              <a:off x="1757880" y="3599640"/>
              <a:ext cx="2846880" cy="4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They are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26"/>
            <p:cNvSpPr/>
            <p:nvPr/>
          </p:nvSpPr>
          <p:spPr>
            <a:xfrm>
              <a:off x="4604760" y="3599640"/>
              <a:ext cx="1539720" cy="4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βλεπουσι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6144840" y="3599640"/>
              <a:ext cx="2769840" cy="4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They are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3"/>
          <p:cNvSpPr/>
          <p:nvPr/>
        </p:nvSpPr>
        <p:spPr>
          <a:xfrm>
            <a:off x="142920" y="4514760"/>
            <a:ext cx="8658360" cy="1099440"/>
          </a:xfrm>
          <a:prstGeom prst="rect">
            <a:avLst/>
          </a:prstGeom>
          <a:noFill/>
          <a:ln w="3168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Once you know the Present of </a:t>
            </a:r>
            <a:r>
              <a:rPr b="0" lang="el-GR" sz="36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ω</a:t>
            </a:r>
            <a:r>
              <a:rPr b="0" lang="en-GB" sz="36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you know the Present of almost every Greek verb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0"/>
          <p:cNvSpPr/>
          <p:nvPr/>
        </p:nvSpPr>
        <p:spPr>
          <a:xfrm>
            <a:off x="4611600" y="246852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Gentium"/>
              </a:rPr>
              <a:t>βλεπε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24BFAF8F-8F09-4D20-AA04-587F4FDB19C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-257040" y="233280"/>
            <a:ext cx="8627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26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εω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ERBS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(φιλεω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134" name="Text Box 4"/>
          <p:cNvSpPr/>
          <p:nvPr/>
        </p:nvSpPr>
        <p:spPr>
          <a:xfrm>
            <a:off x="857160" y="1428840"/>
            <a:ext cx="7358040" cy="1940400"/>
          </a:xfrm>
          <a:prstGeom prst="rect">
            <a:avLst/>
          </a:prstGeom>
          <a:noFill/>
          <a:ln w="3168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Greek grammar is very regula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but with many </a:t>
            </a: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</a:rPr>
              <a:t>minor adjust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hen certain </a:t>
            </a: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</a:rPr>
              <a:t>letters comb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4"/>
          <p:cNvSpPr/>
          <p:nvPr/>
        </p:nvSpPr>
        <p:spPr>
          <a:xfrm>
            <a:off x="71280" y="4214880"/>
            <a:ext cx="9144000" cy="17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ω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erbs: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       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+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7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       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+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7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       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rops out before long vowel or diphth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13D3705B-95F8-4693-AE94-0C85AD2D85C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-257040" y="233280"/>
            <a:ext cx="8627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εω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ERBS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(φιλεω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graphicFrame>
        <p:nvGraphicFramePr>
          <p:cNvPr id="140" name=""/>
          <p:cNvGraphicFramePr/>
          <p:nvPr/>
        </p:nvGraphicFramePr>
        <p:xfrm>
          <a:off x="166680" y="1576440"/>
          <a:ext cx="8763120" cy="4281480"/>
        </p:xfrm>
        <a:graphic>
          <a:graphicData uri="http://schemas.openxmlformats.org/drawingml/2006/table">
            <a:tbl>
              <a:tblPr/>
              <a:tblGrid>
                <a:gridCol w="2679840"/>
                <a:gridCol w="1807920"/>
                <a:gridCol w="42753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ual 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rocess of getting the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lov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l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ει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ις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ι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 or it is l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ε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ι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l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l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ι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ε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ι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are l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ουσι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or</a:t>
                      </a:r>
                      <a:r>
                        <a:rPr b="0" i="1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ουσ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AAE1B5C9-5265-4A23-9BFE-27248647EBD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285840" y="2000160"/>
            <a:ext cx="8420040" cy="2319840"/>
          </a:xfrm>
          <a:prstGeom prst="rect">
            <a:avLst/>
          </a:prstGeom>
          <a:noFill/>
          <a:ln w="3168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ω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erbs lik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φιλεω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e always listed in vocabularies or dictionaries in their uncontracted form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.e.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φιλε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though this form will never be found in Greek (since it would have contracted into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φιλ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.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-257040" y="233280"/>
            <a:ext cx="8627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εω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ERBS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(φιλεω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14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64094D83-C332-4FE9-9BE2-629E521EA04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785880" y="428760"/>
            <a:ext cx="6643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6EC6DDF1-3353-43E1-91C0-88D09068027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OMINATIVE AND ACCUSATIVE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562040" y="2768760"/>
          <a:ext cx="6172200" cy="21841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in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υ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76"/>
          <p:cNvSpPr/>
          <p:nvPr/>
        </p:nvSpPr>
        <p:spPr>
          <a:xfrm>
            <a:off x="1523880" y="185436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3.1 The forms of </a:t>
            </a:r>
            <a:r>
              <a:rPr b="0" lang="el-GR" sz="2800" spc="-1" strike="noStrike">
                <a:solidFill>
                  <a:srgbClr val="ffffff"/>
                </a:solidFill>
                <a:latin typeface="Gentium"/>
              </a:rPr>
              <a:t>λογο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OMINATIVE AND ACCUSATIVE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1071720" y="2000160"/>
            <a:ext cx="650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3.2 The Meaning of the Nominative and Accusative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2000160" y="3429000"/>
            <a:ext cx="5143680" cy="11912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Nominative – Su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ccusative – O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10:50:58Z</dcterms:created>
  <dc:creator>Sarah</dc:creator>
  <dc:description/>
  <dc:language>en-US</dc:language>
  <cp:lastModifiedBy>Sarah</cp:lastModifiedBy>
  <dcterms:modified xsi:type="dcterms:W3CDTF">2008-08-25T11:50:21Z</dcterms:modified>
  <cp:revision>53</cp:revision>
  <dc:subject/>
  <dc:title>Slide 1</dc:title>
</cp:coreProperties>
</file>